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23DE-A89A-44F8-BDBB-68B32FB3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064-E10E-4436-AA17-2BB0F52A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E6F-4274-4F29-88D9-08ECDDAA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9805-4708-43EA-B3B2-60A540F2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A28-66FF-4424-9DAF-94B31ED7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55EA-ABE0-4BC1-A381-CB747475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707-90DC-4C67-AFC7-0F947B67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E2B-0B30-40D0-9F5F-694E62F7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0097-D199-48BC-9820-C78D3B4C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F98D-EA0F-45FD-87FD-627E7F08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83A4-5D5B-4BE4-A59E-7A272D3F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960-04F0-4D93-9BCA-EA43DF78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059E-A5FE-4BBF-B1BC-603713505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 података на интернету и начини њиховог претраживањ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2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5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5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– Увод у фармацеутску пракс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дицински сајтов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sc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ncedi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medical jou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medical jour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дицински сајтов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line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дећа светска библиографск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 података коју је основала НАЦИОНАЛНА МЕДИЦИНСКА БИБЛИОТЕКА Сједињених Држа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један од највећих биомединских серве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 облас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цине, стоматологије, ветерине, система здравствене заштите и претклиничких наука и омогућава приступ апстрактима и цитираним радовима из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г број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едицинских  часопис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библиографских података о сваком чланку из преко 5000 часописа, омогућен је и линк до рада у пуном обим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рад је индексиран према правилима из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</a:t>
            </a:r>
            <a:r>
              <a:rPr b="1" i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adings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SH)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заур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дицински сајтов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scape 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ава приступ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ом извору податак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ласти медицинских нау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ње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здравственим професионалцима: лекарима, фармацеутима, стоматолозима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ан је бесплатно, али захтева регистрациј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дицински сајтов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6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es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бухвата савремене податк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иничке медици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и научне иформације о око 7000 различитих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идирају је и уређују експерти из различитих области клиничке медиц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дицински сајтов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Direct®  представља највећу светску електронску базу пуног текста из области природних и техничких наука, као и одговарајућих библиографских подата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а је 1997. као база података Elsevier часоп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базе података обухватај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чке информационе сист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сајт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дања часопи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ine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дања часопис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w England Journal of Medicin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EJM) је медицинск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опи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а завидном вредношћу импакт фактора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,776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ов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јављени у овом часопису садрже валидне и клинички значајне и применљиве научне информације из различитих области медиц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уп часопису је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плата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 је недељни научни електронски часопис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9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а намером да публикује сваки сигнификантни помак из области науке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јући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шу размену информација у свету наук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NCET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од најстаријих, најпрестижнијих и најпознатијих часописа (1823.-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ји садржи највалидније актуелне информације из области медицин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tralian Prescriber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независна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ација која је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ећена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јављиванњу информација које критички сагледавају примену лекова и медицинских средстава. П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ћен је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м здравственим професионалцима, а посебно лекарима и фармацеутим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Medical Journal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 пуног текста која садржи радове из истоименог часопи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а је 1995. године и за сада је приступ овом сајту бесплата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ећен ј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чној медицинској јавности, здравственим професионалцима, истраживачима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акт фактор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р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страњениј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чин вредновања научних часопис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тут за научне информације (ИСИ) из Филаделфије, САД, 60-тих година прошлог век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ћење цитатне фреквенције часописа и изражава се тзв. импакт фактор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на вредност импакт фактора или фактора утицаја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sr-Latn-C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ј цит</a:t>
            </a:r>
            <a:r>
              <a:rPr b="1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раних радова</a:t>
            </a:r>
            <a:r>
              <a:rPr b="1" lang="sr-Latn-C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последње</a:t>
            </a:r>
            <a:r>
              <a:rPr b="1" lang="sr-Latn-C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две године </a:t>
            </a:r>
            <a:r>
              <a:rPr b="1" lang="sr-R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sr-Latn-C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ј радова објављених у те две годи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 података посвеће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цин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нован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ј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доказима су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cochrane.org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he Cochrane Collabo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guidelines.gov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ational Guideline Clearingho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nice.org.uk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he National Institute for Clinical Excell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sign.ac.uk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he Scottish Intercollegiate Guidelines Networ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о лекови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о лековим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rxlist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bnf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factsandcomparison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о лекови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атака (1995- present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снована од групе фармацеута с циљем да се научна информација о лековима учини доступном сви здравственим професионалци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 производа који су приказани у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зи подата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у ревидирају експерти фармакотерапије, лекари и фармацеути а на основу највалидније актуелне научне информациј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могућава приступ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елним научним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формација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лековима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помаж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арима и фармацеутима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су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ношењу одлука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у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а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квиру R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базе података омогућена је и претрага, уносом ИНН-а/заштићеног имена лека.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National Formulary (BNF)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сте независтан извор података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ен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бир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ивања, издавања и примене лекова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нистарства за здравље Велике Британије) Фармакотерапијске препоруке које се наводе у БНФ-у настају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чне експертизе и ревизије валидних клиничких доказа о лекови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s and Comparison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адржи информације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лековима 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ј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оје су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е као резултат стручне ревизије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савременијих податак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7T11:09:55Z</dcterms:created>
  <dc:creator>Author</dc:creator>
  <dc:description/>
  <dc:language>en-US</dc:language>
  <cp:lastModifiedBy>Marina Kostic</cp:lastModifiedBy>
  <dcterms:modified xsi:type="dcterms:W3CDTF">2023-09-07T10:38:06Z</dcterms:modified>
  <cp:revision>15</cp:revision>
  <dc:subject/>
  <dc:title>Приказ база података на интернету и начини њиховог претраживања</dc:title>
</cp:coreProperties>
</file>